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20BD-6FBE-401F-AC31-6DFB81059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2306-2ECD-4848-94AA-9869BFFF1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20A4-F7AE-43E9-AAD5-1438DFAD5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4C4-DCE5-440D-AF4E-A849937D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1B0-BCD1-4170-9E26-D4E902C3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485-C6E3-49D6-8418-9F19AFC1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9B4-4666-4504-A47D-7DE6F4EC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3686-175F-422C-9499-B74CB2D3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0ADB-CA5A-4E21-9E1D-5677D49E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41E8-1053-4596-A7DE-45489A21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9C8F-A3AD-43B5-A220-BCAA3B25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BAB2-A454-4668-BAB3-2CBA36A8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5DC4-1B59-4936-BC36-B113DD39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C18A-AE8B-4A6B-82F5-9D85B2B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112-0D69-4768-90D0-56F34776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3805-ABCB-44F3-9C90-5FF25A12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54F8-B7E2-4824-A180-898623F3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B808-650F-423F-8EDF-2EB87959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8983-A32E-4643-BD1D-4F55B70D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52AD-17AD-4580-AF28-7B1F405C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62D4-1A09-41DB-8BB9-B0B3F06D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E39D-FA73-42CA-9832-89E3D2DD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7798-6C41-4672-A6CA-71EFB6BE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1DA9-5AF1-4E5F-A92F-F418756E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11A85-969F-4B86-ADDB-775D37A8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F84-C9D3-46D8-925A-B9B4DC5E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B99A-6B7B-4D09-8489-1DFA0727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1F3E1-217B-417D-835C-54915105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4F03-B338-4CD0-A434-D7F90618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ADD7-DA43-438D-A3BD-6183D1B0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CE6A8-B804-49AB-988C-0924375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59C72-A02D-4670-A0E9-8816F4D8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20D0-5B1F-440D-819A-CBF19566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9784-3B7A-49C8-BCC3-E0A11752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F2D46-3F8E-4285-9B16-AB887AF8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D1B3-0DF8-4CA1-B5CF-67C44397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686-20C0-4B87-8D79-A8E0BAA5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ECB5D-EDBF-4CE0-B3C1-ADCDE31A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7BC6-C89F-4A34-BF92-3E37EB88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F19E4-5AA6-4B33-A088-BEA31F73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74E67-C7E9-43EA-8634-0E4CB3B2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EA64B-C55A-403D-9615-B8A10CCD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8B48D-AE5E-43AC-B03A-668ED93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66079-E12D-4C87-8A54-8C4D3B82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D6240-D58F-49AA-9A0B-DA63AB60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00BF-CC8F-42EC-A0A1-EB17EFB8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064E7-B8CD-4E66-88F3-1557D8F1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EC8-DFD3-4FB6-97BB-C0AFF5AD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758A9-0D0B-418B-BAF4-1DFC64C6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9EF95-06F9-40B2-85D3-9FDA3C93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184FE-A3D6-4CCA-B10E-E2C81A56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7254E-8B1B-40EA-BDCA-264D8F92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BC51-6B30-4C39-AAAD-4DFFF3AB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05F2-EA13-4B9F-9031-71823CAA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0DCB-9A84-4A2A-82C5-2230A863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6A72A-4D6D-4B43-827A-353E4FAC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628F5-F7C6-472C-A718-A042DD5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AFB8A-9DD0-41CD-BF0B-DAD43E2C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E32-D206-4DCF-9A97-D496950E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9967E-D617-4818-B5B3-2053A895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C28-6F2F-4849-B694-D21248BF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AF7-1D54-4657-B3F8-F0B51A4C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859-CA8D-4313-B401-5717C8D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1BB0-703C-4C96-8C02-6B7DD3A39BB7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47FE-EC27-4FFC-A326-638B54349888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450D-2D04-4137-BC69-7C974BDC0F0A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C52D-A2CC-414C-88D5-8B7C5DC6690F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387B-F263-4443-BA4A-F6E98E3F107F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bc-people.com/data/nevskiy/index.htm" TargetMode="External"/><Relationship Id="rId2" Type="http://schemas.openxmlformats.org/officeDocument/2006/relationships/hyperlink" Target="http://www.abc-people.com/data/pushkin/index.htm" TargetMode="External"/><Relationship Id="rId3" Type="http://schemas.openxmlformats.org/officeDocument/2006/relationships/hyperlink" Target="http://www.abc-people.com/event/supper/dali.htm" TargetMode="External"/><Relationship Id="rId4" Type="http://schemas.openxmlformats.org/officeDocument/2006/relationships/hyperlink" Target="http://www.abc-people.com/data/brown-dan/index.htm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3;&#1092;&#1072;&#1074;&#1080;&#1090;" TargetMode="External"/><Relationship Id="rId2" Type="http://schemas.openxmlformats.org/officeDocument/2006/relationships/hyperlink" Target="http://ru.wikipedia.org/wiki/&#1050;&#1086;&#1076;" TargetMode="External"/><Relationship Id="rId3" Type="http://schemas.openxmlformats.org/officeDocument/2006/relationships/hyperlink" Target="http://ru.wikipedia.org/wiki/&#1058;&#1077;&#1086;&#1088;&#1080;&#1103;" TargetMode="External"/><Relationship Id="rId4" Type="http://schemas.openxmlformats.org/officeDocument/2006/relationships/hyperlink" Target="http://ru.wikipedia.org/wiki/&#1055;&#1080;&#1092;&#1072;&#1075;&#1086;&#1088;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43040" y="856800"/>
            <a:ext cx="6858000" cy="378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Все есть число" 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3929040" y="3929040"/>
            <a:ext cx="4357800" cy="131076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боту 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ирикова  Муся,  ученица  6 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У «Хадарская СОШ им. С.Д. Флегонт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ирикова М.А.,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2214720" y="1643040"/>
            <a:ext cx="2714400" cy="337320"/>
          </a:xfrm>
          <a:prstGeom prst="rect">
            <a:avLst/>
          </a:prstGeom>
          <a:solidFill>
            <a:srgbClr val="d5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(Пифагорийский принц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1857240" y="428760"/>
          <a:ext cx="7508880" cy="6271920"/>
        </p:xfrm>
        <a:graphic>
          <a:graphicData uri="http://schemas.openxmlformats.org/drawingml/2006/table">
            <a:tbl>
              <a:tblPr/>
              <a:tblGrid>
                <a:gridCol w="1928880"/>
                <a:gridCol w="285840"/>
                <a:gridCol w="571320"/>
                <a:gridCol w="571680"/>
                <a:gridCol w="571320"/>
                <a:gridCol w="114480"/>
                <a:gridCol w="301680"/>
                <a:gridCol w="84240"/>
                <a:gridCol w="428400"/>
                <a:gridCol w="88920"/>
                <a:gridCol w="196920"/>
                <a:gridCol w="104760"/>
                <a:gridCol w="299880"/>
                <a:gridCol w="301680"/>
                <a:gridCol w="79560"/>
                <a:gridCol w="285480"/>
                <a:gridCol w="319320"/>
                <a:gridCol w="323640"/>
                <a:gridCol w="650880"/>
              </a:tblGrid>
              <a:tr h="345600">
                <a:tc>
                  <a:txBody>
                    <a:bodyPr lIns="17640" rIns="1764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втор Сильва  Гоуэ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арли Чапл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Ш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рл Марк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ерм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енри Фор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Ш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Евгений Евстигн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аак Ньюто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нг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8e58b6"/>
                          </a:solidFill>
                          <a:uFillTx/>
                          <a:latin typeface="Arial CYR"/>
                          <a:ea typeface="Times New Roman"/>
                          <a:hlinkClick r:id="rId1"/>
                        </a:rPr>
                        <a:t>Александр Нев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8e58b6"/>
                          </a:solidFill>
                          <a:uFillTx/>
                          <a:latin typeface="Arial CYR"/>
                          <a:ea typeface="Times New Roman"/>
                          <a:hlinkClick r:id="rId2"/>
                        </a:rPr>
                        <a:t>Александр Сергеевич Пуш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айрон Джордж Ноэль Гордо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нг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жозеф Томсо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нг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8e58b6"/>
                          </a:solidFill>
                          <a:uFillTx/>
                          <a:latin typeface="Arial CYR"/>
                          <a:ea typeface="Times New Roman"/>
                          <a:hlinkClick r:id="rId3"/>
                        </a:rPr>
                        <a:t>Сальвадор Да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п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8e58b6"/>
                          </a:solidFill>
                          <a:uFillTx/>
                          <a:latin typeface="Arial CYR"/>
                          <a:ea typeface="Times New Roman"/>
                          <a:hlinkClick r:id="rId4"/>
                        </a:rPr>
                        <a:t>Браун Дэ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Ш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Жорж Сан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ран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оганн Вольфганг Ге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ерм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епин Илья Ефим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820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Лермонтов Михаил Юрье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Леонардо да Винч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та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амов Николай Иль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СС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Зураб Церете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уприн Александр Иван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жоаккино Росси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та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жеймс Клерк Максвел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нг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Блаватская Елена Петров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,СШ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жованни Лоренцо Берни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та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Чехов Антон Павл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Бехтерев Владимир Михайл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Уинстон Черчил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еликобри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икеланджело Буонарро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та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айковский Петр Иль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лара Луч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утин Владимир Владимир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оганн Карл Фридрих Цёльне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ерм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Эмануэль Сведенбор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Шве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афаэ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та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енделеев Дмитрий Иванови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гюст Роде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ран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4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вгуст Мёбиу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ерм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редн. арифм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2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4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6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5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8" name="Picture 15" descr="http://i139.photobucket.com/albums/q281/SilvaGauen/astrology/zodiak.gif"/>
          <p:cNvPicPr/>
          <p:nvPr/>
        </p:nvPicPr>
        <p:blipFill>
          <a:blip r:embed="rId5"/>
          <a:stretch/>
        </p:blipFill>
        <p:spPr>
          <a:xfrm>
            <a:off x="0" y="857160"/>
            <a:ext cx="1785960" cy="12924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2286000" y="216000"/>
            <a:ext cx="585792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числила числа рождения и природные задатки</a:t>
            </a:r>
            <a:r>
              <a:rPr b="1" lang="ru-RU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6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менитых  людей  мира 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по 3 с каждого зодиак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1214280" y="579240"/>
            <a:ext cx="764388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лучилось,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ч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число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ождения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 меня у Александра Сергеевича Пушкина и Александра Невского. А природные задатки у Владимира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ладимировича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утина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 актрисы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лары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Лучко одинак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1285920" y="2928960"/>
            <a:ext cx="7500960" cy="338580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Число  имени получается  в  результате  сложения  числовых  значений  букв  вашего  имени.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Ещё я посчитала числа имени у учащихся и педагогов и покрасила гармонич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Чтобы проверить гипотезу, что число имени  привела к успеху, необходимо  находение в гармонии  чисел рождения и имени я посчитала их у знаменитых людей нашей республики. Оказалось, что эти числа находятся в гармонии только у некотор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1143000" y="221760"/>
            <a:ext cx="4643280" cy="192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ак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ифагор</a:t>
            </a:r>
            <a:r>
              <a:rPr b="0" lang="sah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йская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система заимствована  у   греков   я   решила попробовать к  якутскому  алфавиту.  И как  ни странно  у  рассмотренных  мной 12  знаменитостей  числа  рождения  и имени гармоничны почти у все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143760" y="285840"/>
          <a:ext cx="2685960" cy="1471680"/>
        </p:xfrm>
        <a:graphic>
          <a:graphicData uri="http://schemas.openxmlformats.org/drawingml/2006/table">
            <a:tbl>
              <a:tblPr/>
              <a:tblGrid>
                <a:gridCol w="363240"/>
                <a:gridCol w="274680"/>
                <a:gridCol w="312840"/>
                <a:gridCol w="262080"/>
                <a:gridCol w="245880"/>
                <a:gridCol w="308160"/>
                <a:gridCol w="371520"/>
                <a:gridCol w="258480"/>
                <a:gridCol w="289080"/>
              </a:tblGrid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</a:tr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071720" y="2143080"/>
          <a:ext cx="7786440" cy="4200480"/>
        </p:xfrm>
        <a:graphic>
          <a:graphicData uri="http://schemas.openxmlformats.org/drawingml/2006/table">
            <a:tbl>
              <a:tblPr/>
              <a:tblGrid>
                <a:gridCol w="285480"/>
                <a:gridCol w="2643480"/>
                <a:gridCol w="214200"/>
                <a:gridCol w="428400"/>
                <a:gridCol w="571680"/>
                <a:gridCol w="571320"/>
                <a:gridCol w="428760"/>
                <a:gridCol w="357120"/>
                <a:gridCol w="357120"/>
                <a:gridCol w="285840"/>
                <a:gridCol w="357120"/>
                <a:gridCol w="500040"/>
                <a:gridCol w="357480"/>
                <a:gridCol w="428400"/>
              </a:tblGrid>
              <a:tr h="28476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</a:tr>
              <a:tr h="28476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Николаев Михаил Ефим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Calibri"/>
                        </a:rPr>
                        <a:t>Ѳксекулээх Ѳ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Алексей Елисеевич Кулак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Анегина Егоровна Ильи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Эрилик  (Эристи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6 (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емен Степанович Яковл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Ойуунуск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42660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Платон Алексеевич Ойунский (Слепцов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9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6  (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Да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21384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асилий Семенович Яковл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Аммосов Максим Кир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Данилов Семен  Петр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Тобуроков Петр Николае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Ларионов Владимир Петр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Осипов Афанасий  Николае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Григорян Грант Арам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  <a:tr h="213480"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реднее ариф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59"/>
                    </a:solidFill>
                  </a:tcPr>
                </a:tc>
              </a:tr>
            </a:tbl>
          </a:graphicData>
        </a:graphic>
      </p:graphicFrame>
      <p:sp>
        <p:nvSpPr>
          <p:cNvPr id="325" name="TextBox 11"/>
          <p:cNvSpPr/>
          <p:nvPr/>
        </p:nvSpPr>
        <p:spPr>
          <a:xfrm>
            <a:off x="1071720" y="6357960"/>
            <a:ext cx="7786440" cy="520200"/>
          </a:xfrm>
          <a:prstGeom prst="rect">
            <a:avLst/>
          </a:prstGeom>
          <a:solidFill>
            <a:srgbClr val="fcf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число рождения, </a:t>
            </a: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число имени по русскому алфавиту</a:t>
            </a: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число имени по якутскому алфавиту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1000080" y="142920"/>
          <a:ext cx="7715160" cy="6438960"/>
        </p:xfrm>
        <a:graphic>
          <a:graphicData uri="http://schemas.openxmlformats.org/drawingml/2006/table">
            <a:tbl>
              <a:tblPr/>
              <a:tblGrid>
                <a:gridCol w="285840"/>
                <a:gridCol w="2547720"/>
                <a:gridCol w="671760"/>
                <a:gridCol w="436320"/>
                <a:gridCol w="435240"/>
                <a:gridCol w="436320"/>
                <a:gridCol w="436680"/>
                <a:gridCol w="434880"/>
                <a:gridCol w="474840"/>
                <a:gridCol w="560160"/>
                <a:gridCol w="513000"/>
                <a:gridCol w="482400"/>
              </a:tblGrid>
              <a:tr h="240480"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Сравним данны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отенциал природного задатка педколле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Черноградского И.И. и  на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Харак т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Био-энер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Внутр скла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Здо-ровь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Инту-и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Зазем ленно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Мера талан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Чувство дол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Интел ле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</a:tr>
              <a:tr h="240480"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ко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192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йинская гуманитарная шко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048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утская агрошкола Нам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12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утская кадетская школа-инте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048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юрюнская юноше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228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кола№7 г.Якут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048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йи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192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Хадарская СО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4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4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6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5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5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6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192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08bf"/>
                          </a:solidFill>
                          <a:latin typeface="Arial"/>
                          <a:ea typeface="Times New Roman"/>
                        </a:rPr>
                        <a:t>Знаменитые люди м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08b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c808b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08bf"/>
                          </a:solidFill>
                          <a:latin typeface="Arial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08bf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08bf"/>
                          </a:solidFill>
                          <a:latin typeface="Arial"/>
                          <a:ea typeface="Calibri"/>
                        </a:rPr>
                        <a:t>4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08bf"/>
                          </a:solidFill>
                          <a:latin typeface="Arial"/>
                          <a:ea typeface="Calibri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08bf"/>
                          </a:solidFill>
                          <a:latin typeface="Arial"/>
                          <a:ea typeface="Calibri"/>
                        </a:rPr>
                        <a:t>6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08bf"/>
                          </a:solidFill>
                          <a:latin typeface="Arial"/>
                          <a:ea typeface="Calibri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08bf"/>
                          </a:solidFill>
                          <a:latin typeface="Arial"/>
                          <a:ea typeface="Calibri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08bf"/>
                          </a:solidFill>
                          <a:latin typeface="Arial"/>
                          <a:ea typeface="Calibri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08bf"/>
                          </a:solidFill>
                          <a:latin typeface="Arial"/>
                          <a:ea typeface="Calibri"/>
                        </a:rPr>
                        <a:t>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372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36142"/>
                          </a:solidFill>
                          <a:latin typeface="Arial"/>
                          <a:ea typeface="Times New Roman"/>
                        </a:rPr>
                        <a:t>Знаменитые люди РС (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36142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6142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5960"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 gridSpan="9"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Данные сравнительного анализа потенциала природного задатка классных коллективов школы №7 г.Якутска и моего кл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Харак т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Био-энер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Внутр скла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Здо-ровь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Инту-и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Зазем ленно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Мера талан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Чувство дол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 CYR"/>
                          <a:ea typeface="Calibri"/>
                        </a:rPr>
                        <a:t>Интел ле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c8f8b2"/>
                    </a:solidFill>
                  </a:tcPr>
                </a:tc>
              </a:tr>
              <a:tr h="240480"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228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а математически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048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б углубленное изуч.ино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192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б гуманитарный (угл.литератур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048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в класс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192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ж (якутски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048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а математически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228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ж математический ( смешанны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0400">
                <a:tc>
                  <a:txBody>
                    <a:bodyPr lIns="45000" rIns="45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6 класс Хадарской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 CYR"/>
                          <a:ea typeface="Times New Roman"/>
                        </a:rPr>
                        <a:t>2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 CYR"/>
                          <a:ea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 CYR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 CYR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 CYR"/>
                          <a:ea typeface="Times New Roman"/>
                        </a:rPr>
                        <a:t>1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 CYR"/>
                          <a:ea typeface="Times New Roman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 CYR"/>
                          <a:ea typeface="Times New Roman"/>
                        </a:rPr>
                        <a:t>2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000" marR="45000">
                    <a:lnL w="5760">
                      <a:solidFill>
                        <a:srgbClr val="31849b"/>
                      </a:solidFill>
                    </a:lnL>
                    <a:lnR w="5760">
                      <a:solidFill>
                        <a:srgbClr val="31849b"/>
                      </a:solidFill>
                    </a:lnR>
                    <a:lnT w="5760">
                      <a:solidFill>
                        <a:srgbClr val="31849b"/>
                      </a:solidFill>
                    </a:lnT>
                    <a:lnB w="5760">
                      <a:solidFill>
                        <a:srgbClr val="31849b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143000" y="357120"/>
          <a:ext cx="7791480" cy="6188040"/>
        </p:xfrm>
        <a:graphic>
          <a:graphicData uri="http://schemas.openxmlformats.org/drawingml/2006/table">
            <a:tbl>
              <a:tblPr/>
              <a:tblGrid>
                <a:gridCol w="430200"/>
                <a:gridCol w="3427560"/>
                <a:gridCol w="428400"/>
                <a:gridCol w="3505320"/>
              </a:tblGrid>
              <a:tr h="1279080">
                <a:tc gridSpan="2"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ессивность; находчивость; многосторонность; активность; энергичность; склонность к исследованию; умение управлять; новаторство; свободолюбие; быстрота мышления; любозн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7908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ригинальность; творческое мышление; изобретательность; сила воли, решительность; храбрость, инициативность; умение руководить; энергичность, сила; самостоятельность; твердые убеждения; мужествен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ртистизм; умение сочувствовать; гуманизм; твердые убеждения; правдивость; бескорыстие; гармоничность; привязанность к дому и семье; чувств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9220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мение разрешать споры; дипломатичность; тактичность, умение убеждать; умение сотрудничать; миролюбие; предупредительность; чувствительность; эстетизм; скромность; искрен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клонность к наблюдению, исследованию, анализу, научному мышлению; способности к технике, изобретательность; чувство собственного достоинства; обаятельность; интеллект; проницательность; независ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7908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оображение; вдохновение; эмоциональность; творческий талант; дар слова; дар предвидения; художественный вкус; успешность в самовыражении; оптимизм; жизнелюбие; весе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ила; авторитет; самодостаточность; умение руководить; рассудительность; организованность; энергичность; требовательность; целеустремленность; волевой характе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596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средоточенность; прилежание; хорошие манеры; чуткость; созидательность; почитание моральных ценностей; практичность; методичность; решительность</a:t>
                      </a:r>
                      <a:r>
                        <a:rPr b="1" lang="ru-RU" sz="1400" spc="-1" strike="noStrike">
                          <a:solidFill>
                            <a:srgbClr val="3b4a1e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вершенство; любовь, сострадание; впечатлительность; милосердие; беспристрастность; талант художника, писателя, актера; удачл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28" name="WordArt 1"/>
          <p:cNvSpPr txBox="1"/>
          <p:nvPr/>
        </p:nvSpPr>
        <p:spPr>
          <a:xfrm>
            <a:off x="1285920" y="428760"/>
            <a:ext cx="36432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исло дня рож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143000" y="428760"/>
          <a:ext cx="7786800" cy="5906880"/>
        </p:xfrm>
        <a:graphic>
          <a:graphicData uri="http://schemas.openxmlformats.org/drawingml/2006/table">
            <a:tbl>
              <a:tblPr/>
              <a:tblGrid>
                <a:gridCol w="349200"/>
                <a:gridCol w="3641760"/>
                <a:gridCol w="401760"/>
                <a:gridCol w="3394080"/>
              </a:tblGrid>
              <a:tr h="857160">
                <a:tc grid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ычно обладатели этой цифры крайне эмоциональны и чувствительны, духовно  свободны, независимы. У них философский склад  мышле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6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юди этого типа активны и энергичны, они хорошие исполнители, хотя склонны к опрометчивым решениям. Уверены в своих силах и возможностях, смелы и храбр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ни становятся известными в обществе своими взглядами, но при условии, что  слова будут совпадать с делами. Они гармоничны, честны, романтичны, обладают хорошим вкусо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71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Эти  люди  легки,  обаятельны,  характер изменчивый. Легко приспосабливаются к обстоятельствам,  хотя  эти  люди  больше склонны  к  размышлениям,  чем  к действиям.  Наибольший  успех  приносит совместная  работа  с  друзь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урядные натуры в науке, искусстве, религиозной деятельности. Умеют хорошо слушать и понимать своих ближних.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Они погружены в собственные мысли, поэтому кажутся оторванными от внешнего мир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841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ти люди горды и независимы, добиваются больших успехов в выбранных отраслях, любят командовать, приказывать. Символизирует талант, разносторонность, веселость, указывает на науку, мир искусства, спортивную жизнь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юди этого типа хорошо проявляют себя в делах, сулящих большую материальную выгоду. Слабы в разработке деталей. Заканчивая успешно одно дело, эти люди сразу же принимаются за следующе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72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дежные и добросовестные люди. Наилучших успехов они добиваются в науке, технике, на производстве. Незаменимы в экстремальных ситуациях.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Достигают призн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анность высокой цели, щедрая отдача того, чем наградила их природа, возносят этих людей высоко наверх, если  откажутся от излишней гордости, эгоизма и  самомне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30" name="WordArt 28"/>
          <p:cNvSpPr txBox="1"/>
          <p:nvPr/>
        </p:nvSpPr>
        <p:spPr>
          <a:xfrm>
            <a:off x="1285920" y="500040"/>
            <a:ext cx="37861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исло име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142640" y="428760"/>
            <a:ext cx="7715160" cy="6000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Я пришла к следующим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ам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  определении природных  задатков  учащихся возможно  применение  таблицы  Пифагора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ожно  разбить на  творческие  группы ,  учитывая связи  по числу  рождения  учащихся  и  учителей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  нахождении  числа  имени  в  нашей  республике  можно применить  якутский  алфавит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хождение  в  гармонии  числа  рождения  и  числа  имени  влияет  на  развитие  личнос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356840" y="499680"/>
            <a:ext cx="7358040" cy="335772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: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гические свойства чисел волновали  людей тысячи лет. 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о нас дошли «святая троица», нечётное число цветов в букете, «чертова дюжина», во  многих  странах  нет самолётов и домов с номером 13 т.д.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умерология  в  состоянии  многое  рассказать  о личности и о том, что дано от рожд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1214280" y="4429080"/>
            <a:ext cx="7643880" cy="1573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ипоте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читается,  что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согласование в  гармонии  числа  рождения  и числа  имени 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вышает эффективность  всех  наших  действий  и  начинаний.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85560" y="3142800"/>
            <a:ext cx="7286760" cy="335772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овизна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ей  работы  заключается  в  том,  что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впервые Пифагорийская нумерологическая   система   применена     к  якутскому   алфави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ая значимость: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ожно  использовать  для проведения лекц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ожно  разбить  на творческие   группы  по    числу рожд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357200" y="285840"/>
            <a:ext cx="707256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ю моей работы является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зучение  нумерологической  системы Пифаг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ставила перед собой следующие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накомство с современной нумер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числение числа рождения и числа име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бобщение полученных данных.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243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0" y="243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1143000" y="2000160"/>
            <a:ext cx="7715160" cy="4665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ность человека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ложена в датах рождения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се от рождения получили свой номер, который несет определенную характеристику. Очень много о вас и вашем месте в мире может сказа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вашего рожд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имени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грает ключевую роль в социальной жизни человека приводя к успеху или к поражению. Необходимо, чтобы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исло рождения 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исло имени находились в гармо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даром многие писатели, актеры и другие люди творческих профессий берут себе псевдоним, чтобы он совпал с числом дня рождения, если он удачный, или  улучшил  его, если  он не так  удачен.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2000160" y="428760"/>
            <a:ext cx="6858000" cy="1557000"/>
          </a:xfrm>
          <a:prstGeom prst="rect">
            <a:avLst/>
          </a:prstGeom>
          <a:solidFill>
            <a:srgbClr val="ccf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ая нумерология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ука о числах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 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дает предпочтение  упрощенному </a:t>
            </a:r>
            <a:r>
              <a:rPr b="0" i="1" lang="ru-RU" sz="2400" spc="-1" strike="noStrike" u="sng">
                <a:solidFill>
                  <a:srgbClr val="7153a1"/>
                </a:solidFill>
                <a:uFillTx/>
                <a:latin typeface="Times New Roman"/>
                <a:ea typeface="Times New Roman"/>
              </a:rPr>
              <a:t>числовому  и 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1"/>
              </a:rPr>
              <a:t>алфавитному</a:t>
            </a:r>
            <a:r>
              <a:rPr b="0" i="1" lang="ru-RU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2"/>
              </a:rPr>
              <a:t>коду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основанному  на 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3"/>
              </a:rPr>
              <a:t>теориях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4"/>
              </a:rPr>
              <a:t>Пифагора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5"/>
          <a:stretch/>
        </p:blipFill>
        <p:spPr>
          <a:xfrm>
            <a:off x="214200" y="285840"/>
            <a:ext cx="18576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1143000" y="1643040"/>
            <a:ext cx="7786800" cy="493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1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цели, которое проявляется в форме агрессивности и амбиции - всего, что начинается с "А", первой буквы алфавит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2  -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антитезиса с такими крайностями, как день и ночь. Оно стоит за равновесие и контраст и поддерживает равновесие, смешивая позитивные и негативные качества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3 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значает неустойчивость и символизируется треугольником, который представляет прошлое, настоящее и будущее. Оно объединяет талант и веселость и символизирует собой приспосабливаемость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4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значает устойчивость и прочность. Его надежность представлена квадратом - сторонами космоса, временами года и элементами "огня", "земли", "воздуха" и "воды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мволизирует риск, достигая своего окончательного результата через путешествие и опыт. Отсутствие в нем стабильности, с одной стороны, может привести к неуверенности, но, с другой стороны, это число является и самым счастливым, и самым непредсказуемым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6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мвол надежности. Это идеальное число, которое делится как на четное число (2), так и на нечетное (3), объединяя, таким образом, элементы каждого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7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имволизирует тайну, а также изучение и знание как путь исследования неизвестного и невидимого. Это семь правящих планет, семь дней недели, семь нот гаммы. Оно находится в гармонии с природой, представляя семь цветов рад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8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материального успеха. Оно означает надежность, доведенную до совершенства, поскольку представлено двойным квадратом. Разделенное пополам, оно имеет равные части (4 и 4). Если его еще разделить, то части будут тоже равными (2, 2, 2, 2), показывая четырехкратное равновесие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9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мвол всеобщего успеха, самое большое из всех элементарных чисел. Оно объединяет черты целой группы, что делает его контролирующим фактором, если оно развито в полной степени. Число 9 превращает неустойчивость в стрем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1" descr="Оккультная философия"/>
          <p:cNvPicPr/>
          <p:nvPr/>
        </p:nvPicPr>
        <p:blipFill>
          <a:blip r:embed="rId1"/>
          <a:stretch/>
        </p:blipFill>
        <p:spPr>
          <a:xfrm>
            <a:off x="0" y="1285920"/>
            <a:ext cx="1143000" cy="1515960"/>
          </a:xfrm>
          <a:prstGeom prst="rect">
            <a:avLst/>
          </a:prstGeom>
          <a:ln w="0">
            <a:noFill/>
          </a:ln>
        </p:spPr>
      </p:pic>
      <p:grpSp>
        <p:nvGrpSpPr>
          <p:cNvPr id="282" name="Text Box 3"/>
          <p:cNvGrpSpPr/>
          <p:nvPr/>
        </p:nvGrpSpPr>
        <p:grpSpPr>
          <a:xfrm>
            <a:off x="1127160" y="128520"/>
            <a:ext cx="7815240" cy="1528920"/>
            <a:chOff x="1127160" y="128520"/>
            <a:chExt cx="7815240" cy="1528920"/>
          </a:xfrm>
        </p:grpSpPr>
        <p:pic>
          <p:nvPicPr>
            <p:cNvPr id="283" name="Text Box 3" descr=""/>
            <p:cNvPicPr/>
            <p:nvPr/>
          </p:nvPicPr>
          <p:blipFill>
            <a:blip r:embed="rId2"/>
            <a:stretch/>
          </p:blipFill>
          <p:spPr>
            <a:xfrm>
              <a:off x="1127160" y="128520"/>
              <a:ext cx="781524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143000" y="142920"/>
              <a:ext cx="77868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ru-RU" sz="1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В </a:t>
              </a:r>
              <a:r>
                <a:rPr b="1" i="1" lang="ru-RU" sz="1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нумерологии</a:t>
              </a:r>
              <a:r>
                <a:rPr b="0" lang="ru-RU" sz="1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все слова, имена и даты сводятся к простым числам, которые соответствуют характеристикам, влияющим на жизнь человека. </a:t>
              </a:r>
              <a:r>
                <a:rPr b="0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Двадцать столетий спустя знаменитый </a:t>
              </a: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Генрих</a:t>
              </a:r>
              <a:r>
                <a:rPr b="0" i="1" lang="ru-RU" sz="1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  </a:t>
              </a: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Агриппа</a:t>
              </a:r>
              <a:r>
                <a:rPr b="1" i="1" lang="ru-RU" sz="1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в своем труде 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"Оккультная философия"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вышедшем в 1533 году, назвал эти числа и их значения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2" descr="Chernogradskiy"/>
          <p:cNvPicPr/>
          <p:nvPr/>
        </p:nvPicPr>
        <p:blipFill>
          <a:blip r:embed="rId1"/>
          <a:stretch/>
        </p:blipFill>
        <p:spPr>
          <a:xfrm>
            <a:off x="214200" y="214200"/>
            <a:ext cx="1230480" cy="1857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2071800" y="1357200"/>
            <a:ext cx="6858000" cy="364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ы имеем возможность применения измерителя диагностирования </a:t>
            </a:r>
            <a:r>
              <a:rPr b="1" lang="ru-RU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природного задатка человека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виде таблицы Пифагора. Это описано в трудах Х.В. Нагаркара и И.Я. Бурау[2].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.В. Нагаркар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тверждает, что во  вселенной существуют девять чисел о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д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что  они  между  собой  находятся  во взаимосвязи, делившись  на три группы – первую составляют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 4, 7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 вторую –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 5, 8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 третью –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, 6, 9.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Разделение  на  такие  группы объясняют математически: если  круг разделить на  девять равных частей и соединить вершины   1, 4 и 7   ( равно вершины 2, 5, 8  или  3, 6, 9 ),  получится  равносторонний треугольник. На  астрологическом языке эти точки  находятся в тригоне  друг к другу,  т.е.  они 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едины  и  совмест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2714760" y="214200"/>
            <a:ext cx="5762520" cy="1057320"/>
          </a:xfrm>
          <a:prstGeom prst="rect">
            <a:avLst/>
          </a:prstGeom>
          <a:solidFill>
            <a:srgbClr val="e6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Личностный потенциал и стадии развития коллек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Черноградский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  <a:ea typeface="Times New Roman"/>
              </a:rPr>
              <a:t> И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b050"/>
                </a:solidFill>
                <a:latin typeface="Arial"/>
                <a:ea typeface="Times New Roman"/>
              </a:rPr>
              <a:t>к.п.н, доцент кафедры управления ИПКРО и ПИ ЯГ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2071800" y="5078520"/>
            <a:ext cx="6786360" cy="131076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</a:t>
            </a:r>
            <a:r>
              <a:rPr b="1" i="1" lang="ru-RU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аблице Пифагора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но увидеть характерные отличия структуры элитных школ ( гимназии …) от обычных шк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рименить эту технологию </a:t>
            </a: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при разбивке на творческие группы по генному коду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рганизации работы в малых группах с учащимися или с учителями, руководителям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7"/>
          <p:cNvSpPr/>
          <p:nvPr/>
        </p:nvSpPr>
        <p:spPr>
          <a:xfrm>
            <a:off x="428760" y="4071960"/>
            <a:ext cx="1357200" cy="135720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Равнобедренный треугольник 8"/>
          <p:cNvSpPr/>
          <p:nvPr/>
        </p:nvSpPr>
        <p:spPr>
          <a:xfrm rot="2456400">
            <a:off x="603000" y="4143240"/>
            <a:ext cx="1245960" cy="1000440"/>
          </a:xfrm>
          <a:prstGeom prst="triangle">
            <a:avLst>
              <a:gd name="adj" fmla="val 50000"/>
            </a:avLst>
          </a:prstGeom>
          <a:solidFill>
            <a:srgbClr val="e6ffcd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Равнобедренный треугольник 9"/>
          <p:cNvSpPr/>
          <p:nvPr/>
        </p:nvSpPr>
        <p:spPr>
          <a:xfrm rot="5086200">
            <a:off x="644760" y="4237920"/>
            <a:ext cx="1246320" cy="1000080"/>
          </a:xfrm>
          <a:prstGeom prst="triangle">
            <a:avLst>
              <a:gd name="adj" fmla="val 50000"/>
            </a:avLst>
          </a:prstGeom>
          <a:solidFill>
            <a:srgbClr val="fcfdc7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Равнобедренный треугольник 10"/>
          <p:cNvSpPr/>
          <p:nvPr/>
        </p:nvSpPr>
        <p:spPr>
          <a:xfrm rot="7445400">
            <a:off x="650160" y="4369680"/>
            <a:ext cx="1246320" cy="1000080"/>
          </a:xfrm>
          <a:prstGeom prst="triangle">
            <a:avLst>
              <a:gd name="adj" fmla="val 50000"/>
            </a:avLst>
          </a:prstGeom>
          <a:solidFill>
            <a:srgbClr val="e6ffcd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1"/>
          <p:cNvSpPr/>
          <p:nvPr/>
        </p:nvSpPr>
        <p:spPr>
          <a:xfrm>
            <a:off x="142920" y="4429080"/>
            <a:ext cx="2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2"/>
          <p:cNvSpPr/>
          <p:nvPr/>
        </p:nvSpPr>
        <p:spPr>
          <a:xfrm>
            <a:off x="431280" y="3857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3"/>
          <p:cNvSpPr/>
          <p:nvPr/>
        </p:nvSpPr>
        <p:spPr>
          <a:xfrm>
            <a:off x="1074240" y="3714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4"/>
          <p:cNvSpPr/>
          <p:nvPr/>
        </p:nvSpPr>
        <p:spPr>
          <a:xfrm>
            <a:off x="1645920" y="392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5"/>
          <p:cNvSpPr/>
          <p:nvPr/>
        </p:nvSpPr>
        <p:spPr>
          <a:xfrm>
            <a:off x="1860120" y="450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6"/>
          <p:cNvSpPr/>
          <p:nvPr/>
        </p:nvSpPr>
        <p:spPr>
          <a:xfrm>
            <a:off x="1717200" y="507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7"/>
          <p:cNvSpPr/>
          <p:nvPr/>
        </p:nvSpPr>
        <p:spPr>
          <a:xfrm>
            <a:off x="1288800" y="542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8"/>
          <p:cNvSpPr/>
          <p:nvPr/>
        </p:nvSpPr>
        <p:spPr>
          <a:xfrm>
            <a:off x="645840" y="542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19"/>
          <p:cNvSpPr/>
          <p:nvPr/>
        </p:nvSpPr>
        <p:spPr>
          <a:xfrm>
            <a:off x="217080" y="507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2714760" y="288360"/>
            <a:ext cx="5786280" cy="556560"/>
          </a:xfrm>
          <a:prstGeom prst="rect">
            <a:avLst/>
          </a:prstGeom>
          <a:gradFill rotWithShape="0">
            <a:gsLst>
              <a:gs pos="0">
                <a:srgbClr val="769161"/>
              </a:gs>
              <a:gs pos="100000">
                <a:srgbClr val="cbf9a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Cambria"/>
                <a:ea typeface="Times New Roman"/>
              </a:rPr>
              <a:t>         </a:t>
            </a:r>
            <a:r>
              <a:rPr b="1" i="1" lang="en-US" sz="1800" spc="-1" strike="noStrike">
                <a:solidFill>
                  <a:srgbClr val="ff33cc"/>
                </a:solidFill>
                <a:latin typeface="Cambria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Таблица 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786200" y="5072040"/>
          <a:ext cx="1571760" cy="1000080"/>
        </p:xfrm>
        <a:graphic>
          <a:graphicData uri="http://schemas.openxmlformats.org/drawingml/2006/table">
            <a:tbl>
              <a:tblPr/>
              <a:tblGrid>
                <a:gridCol w="524160"/>
                <a:gridCol w="523800"/>
                <a:gridCol w="523800"/>
              </a:tblGrid>
              <a:tr h="333360"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333360"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333360"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</a:tbl>
          </a:graphicData>
        </a:graphic>
      </p:graphicFrame>
      <p:sp>
        <p:nvSpPr>
          <p:cNvPr id="305" name="Rectangle 1"/>
          <p:cNvSpPr/>
          <p:nvPr/>
        </p:nvSpPr>
        <p:spPr>
          <a:xfrm>
            <a:off x="1071720" y="1018080"/>
            <a:ext cx="7786440" cy="3934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 числовой системе Пифагора можно определить свой характер, состояние здоровья, интеллект и. т. д.  заложенные в вас при рождении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Для этого, например, пишем числовой ряд  моей даты р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021997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 февраля 199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числим первое число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им все цифры числового ряда даты рождения.          1+9+0+2+1+9+9+7=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вое число - 38 (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 Вычислим второе число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им цифры, из которых состоит первое число (1).           3+8=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торое число - 11 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 Вычислим третье число.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ычесть из первого числа (1) первую цифру всего ряда (в нашем примере цифра 1), умноженную на постоянный множитель - 2 (два).           38-1x2=38-2=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ретье число - 36 (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числим четвертое число.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м цифры, из которых состоит третье число (3). 3+6=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твертое число - 9. (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полученные числа под датой р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" descr="нумеролог"/>
          <p:cNvPicPr/>
          <p:nvPr/>
        </p:nvPicPr>
        <p:blipFill>
          <a:blip r:embed="rId1"/>
          <a:stretch/>
        </p:blipFill>
        <p:spPr>
          <a:xfrm>
            <a:off x="285840" y="214200"/>
            <a:ext cx="1857240" cy="103032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11"/>
          <p:cNvSpPr/>
          <p:nvPr/>
        </p:nvSpPr>
        <p:spPr>
          <a:xfrm>
            <a:off x="1571760" y="5072040"/>
            <a:ext cx="3000240" cy="642600"/>
          </a:xfrm>
          <a:prstGeom prst="rect">
            <a:avLst/>
          </a:prstGeom>
          <a:solidFill>
            <a:srgbClr val="d5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пишем одинаковые цифры в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вадрат Пифагора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000920" y="4643280"/>
          <a:ext cx="1000080" cy="79236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39636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95400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902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95400">
                        <a:lnSpc>
                          <a:spcPct val="150000"/>
                        </a:lnSpc>
                        <a:spcBef>
                          <a:spcPts val="499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113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ffab"/>
                    </a:solidFill>
                  </a:tcPr>
                </a:tc>
              </a:tr>
            </a:tbl>
          </a:graphicData>
        </a:graphic>
      </p:graphicFrame>
      <p:sp>
        <p:nvSpPr>
          <p:cNvPr id="309" name="TextBox 13"/>
          <p:cNvSpPr/>
          <p:nvPr/>
        </p:nvSpPr>
        <p:spPr>
          <a:xfrm>
            <a:off x="1571760" y="6143760"/>
            <a:ext cx="4000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начения цифр в приложении док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1071720" y="857160"/>
          <a:ext cx="7786440" cy="4192560"/>
        </p:xfrm>
        <a:graphic>
          <a:graphicData uri="http://schemas.openxmlformats.org/drawingml/2006/table">
            <a:tbl>
              <a:tblPr/>
              <a:tblGrid>
                <a:gridCol w="214200"/>
                <a:gridCol w="1571760"/>
                <a:gridCol w="142560"/>
                <a:gridCol w="142920"/>
                <a:gridCol w="214560"/>
                <a:gridCol w="142560"/>
                <a:gridCol w="142920"/>
                <a:gridCol w="142920"/>
                <a:gridCol w="142920"/>
                <a:gridCol w="142920"/>
                <a:gridCol w="214200"/>
                <a:gridCol w="285840"/>
                <a:gridCol w="214200"/>
                <a:gridCol w="142920"/>
                <a:gridCol w="357120"/>
                <a:gridCol w="357480"/>
                <a:gridCol w="357120"/>
                <a:gridCol w="357120"/>
                <a:gridCol w="357120"/>
                <a:gridCol w="285840"/>
                <a:gridCol w="214200"/>
                <a:gridCol w="285840"/>
                <a:gridCol w="357120"/>
                <a:gridCol w="285840"/>
                <a:gridCol w="214200"/>
                <a:gridCol w="252360"/>
                <a:gridCol w="247680"/>
              </a:tblGrid>
              <a:tr h="350280"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чис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меся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Год р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ис рож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Харак те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ио-эне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Внутрскла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Здо-ровь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Интуи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Зазе ленность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Талан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Чувдол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Интеллек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и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исло им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Анемподистова Агаш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Ноговицына Наст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Титов Афо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Чирикова  Му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Ноев Саш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Романов Влад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Орлова Сардаа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Ксенофонтов То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Осипова Сан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Лукин Гош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Филиппов Мич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69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Филиппова  Ма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Акимов Пет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Лукина Ньургуйаа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Листикова Наташ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0120"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ред. ариф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311" name="TextBox 2"/>
          <p:cNvSpPr/>
          <p:nvPr/>
        </p:nvSpPr>
        <p:spPr>
          <a:xfrm>
            <a:off x="1214280" y="5143680"/>
            <a:ext cx="76438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тем составила список учеников по порядку возрастани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а рождения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 покрасила в один цвет по группам совмест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 получилось, что действительно вроде совпадают.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071720" y="285840"/>
            <a:ext cx="78580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рождения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лучается при сложении второго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071720" y="642960"/>
          <a:ext cx="7786440" cy="4151160"/>
        </p:xfrm>
        <a:graphic>
          <a:graphicData uri="http://schemas.openxmlformats.org/drawingml/2006/table">
            <a:tbl>
              <a:tblPr/>
              <a:tblGrid>
                <a:gridCol w="290520"/>
                <a:gridCol w="2566800"/>
                <a:gridCol w="357120"/>
                <a:gridCol w="312840"/>
                <a:gridCol w="311040"/>
                <a:gridCol w="260280"/>
                <a:gridCol w="2665440"/>
                <a:gridCol w="379440"/>
                <a:gridCol w="322200"/>
                <a:gridCol w="320760"/>
              </a:tblGrid>
              <a:tr h="350280"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Чис ро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Чис ро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акарова Марфа Афанас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Харитонова Елена Семён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28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Лукина Наталья Дмитри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Филиппов Иван Никола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Ноева Саргыла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ривошапкина Акулина Семён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арбахова Варвара Степан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иколаев Игорь Его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Фёдорова Мира Владими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дамов Михаил Никола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иодорова Аида Пет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лесова Мария Васи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Чириков Валентин Семён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арбахов Вячеслав Михайл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офронова Саргылана Филип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ешетникова Лия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арасов Пётр Пет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ьячковская Елена Афанас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Константинова Айталина Семё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Божедонова Дария Пет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авыдова Светлана Иннокенть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Чирикова Маргарита Афанас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идоров Еримей Иван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немподистова Екатерина Прокоп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Божедонов Пётр Василь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Посельский Юрий Павл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обакина Айталина Гаври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иколаева Вероник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рякина Любовь Тимоф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ьячковская Айталина Дмитри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оева Сата Иван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тапова Вера Афанас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иконова Вер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лимова Наталья Денис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ндратьев Михаил Михайл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fb7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авыдова Аграфена Ег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41400" rIns="41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500040" y="5072040"/>
          <a:ext cx="2143080" cy="1357200"/>
        </p:xfrm>
        <a:graphic>
          <a:graphicData uri="http://schemas.openxmlformats.org/drawingml/2006/table">
            <a:tbl>
              <a:tblPr/>
              <a:tblGrid>
                <a:gridCol w="238320"/>
                <a:gridCol w="237960"/>
                <a:gridCol w="237960"/>
                <a:gridCol w="238320"/>
                <a:gridCol w="237960"/>
                <a:gridCol w="238320"/>
                <a:gridCol w="237960"/>
                <a:gridCol w="238320"/>
                <a:gridCol w="237960"/>
              </a:tblGrid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b2"/>
                    </a:solidFill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Ж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Ч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Э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7365d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dc7"/>
                    </a:solidFill>
                  </a:tcPr>
                </a:tc>
              </a:tr>
            </a:tbl>
          </a:graphicData>
        </a:graphic>
      </p:graphicFrame>
      <p:sp>
        <p:nvSpPr>
          <p:cNvPr id="315" name="TextBox 5"/>
          <p:cNvSpPr/>
          <p:nvPr/>
        </p:nvSpPr>
        <p:spPr>
          <a:xfrm>
            <a:off x="2786040" y="4929120"/>
            <a:ext cx="6143760" cy="192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акже вычислила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а рождения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едагогов нашей школы. Получилось, что  в нашем классе и педколлективе школы преобладают личности, чьи числа рождения –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2, 5, 8).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Я считаю, что если в коллективе много общего, то это хороший коллекти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857760" y="214200"/>
            <a:ext cx="2000160" cy="36828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коллек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6:15:26Z</dcterms:created>
  <dc:creator>Admin</dc:creator>
  <dc:description/>
  <dc:language>en-US</dc:language>
  <cp:lastModifiedBy>Муся</cp:lastModifiedBy>
  <dcterms:modified xsi:type="dcterms:W3CDTF">2010-01-28T12:12:25Z</dcterms:modified>
  <cp:revision>327</cp:revision>
  <dc:subject/>
  <dc:title>Слайд 1</dc:title>
</cp:coreProperties>
</file>